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6.png" ContentType="image/png"/>
  <Override PartName="/ppt/media/image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5.jpeg" ContentType="image/jpeg"/>
  <Override PartName="/ppt/media/image33.jpeg" ContentType="image/jpeg"/>
  <Override PartName="/ppt/media/image2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36.wmf" ContentType="image/x-wmf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46.wmf" ContentType="image/x-wmf"/>
  <Override PartName="/ppt/media/image39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E52-598C-45C5-8222-83DF93E3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73B-DF4A-4A55-8ABA-6705EDCC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D66-82A9-4085-940E-CDFAC3F0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60E-988D-4D10-8F94-E8553CD8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E6CFA-66B2-4BF1-A988-AB0CA4D0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B7595-6E72-4CB3-8024-578CFC87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27B89-62E2-4D74-8801-EC58B99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7B09-8C55-4678-ACE6-BCE62BC6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D1B10-63A9-4CB5-A3C4-2D808138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1DA0C-FA7E-4509-B7CD-ED4C0DD3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A44B8-7DD3-42E3-B94F-76BB353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D4D-2F08-48E3-9094-1255A23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AE5DF-5217-4BA9-AC6C-AA139EE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4A9EE-8BB2-4EFE-A40E-458C7E2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BB164-9248-40D9-8AF5-E98BA844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8D747-96E5-41E3-893C-69685C03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71FF-5744-4455-B90D-8E075BBF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BB6-AED0-421C-A6D6-E2F3AE91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6C5-6A55-4E7B-AEBB-AD009FD8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8B2-CA4B-4A4B-9E36-8E731A3A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C4E-F64F-4A63-8B58-CD3644BA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59B-42F2-4479-8EAF-3252EC5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9A1-2191-4B78-B7FD-3A424F3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D2B-6BFA-46C2-8AD3-C8FB282E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FC79-0606-435F-914F-A012750C42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C4A5-423E-417E-A10C-6F416FA0A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iatrics.aappublications.org/content/vol117/issue5/images/large/zpe0050624510001.jpe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ediatrics.aappublications.org/content/vol117/issue5/images/large/zpe0050624510001.jpe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ediatrics.aappublications.org/content/vol117/issue5/images/large/zpe0050624510001.jpe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ediatrics.aappublications.org/content/vol117/issue5/images/large/zpe0050624510001.jpeg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health.wa.gov.au/education/tracheostomy/images/img-infant_head_pos.jpg&amp;imgrefurl=http://www.health.wa.gov.au/education/tracheostomy/me_airway.cfm&amp;usg=__ZSloGqZGV8pYRiv0J6ktaLbRCjY=&amp;h=290&amp;w=390&amp;sz=25&amp;hl=sr&amp;start=4&amp;itbs=1&amp;tbnid=OtbYyUbKe1jejM:&amp;tbnh=91&amp;tbnw=123&amp;prev=/images?q=OPEN+AIRWAY+INFANT&amp;hl=sr&amp;sa=G&amp;gbv=2&amp;tbs=isch:1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rs/imgres?imgurl=http://www.rch.org.au/emplibrary/paed_trauma/Aairwayjawthrust.jpg&amp;imgrefurl=http://www.rch.org.au/paed_trauma/manual.cfm?doc_id=12412&amp;usg=__ergLcXw3qbvO3jz7om3v7Elq1CI=&amp;h=240&amp;w=300&amp;sz=41&amp;hl=sr&amp;start=2&amp;itbs=1&amp;tbnid=526SIcYbBkO0FM:&amp;tbnh=93&amp;tbnw=116&amp;prev=/images?q=JAW+THRUST+CHILDREN&amp;hl=sr&amp;gbv=2&amp;tbs=isch:1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images.google.rs/imgres?imgurl=http://www.mdconsult.com/das/patient/body/0/0/10041/19668_en.jpg&amp;imgrefurl=http://www.mdconsult.com/das/patient/body/0/0/10041/33684.html&amp;usg=__H-Zbij5NTDznxh-HKe1AsOAKWB4=&amp;h=320&amp;w=400&amp;sz=16&amp;hl=sr&amp;start=13&amp;itbs=1&amp;tbnid=YUSqWF7u10FDsM:&amp;tbnh=99&amp;tbnw=124&amp;prev=/images?q=OPEN+AIRWAY+INFANT&amp;hl=sr&amp;sa=G&amp;gbv=2&amp;tbs=isch:1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ediatrics.aappublications.org/content/vol117/issue5/images/large/zpe0050624510003.jpeg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www.firstaid.ph/images/first-aid-techniques/rescue-breathing-for-children-and-babies/rescuebreathingchild.jpg&amp;imgrefurl=http://www.firstaid.ph/first-aid-techniques/rescue-breathing-for-children-and-babies.html&amp;usg=__RF0xlaM-Ft8vcuL1fq5dvdr5TYo=&amp;h=360&amp;w=428&amp;sz=69&amp;hl=sr&amp;start=6&amp;itbs=1&amp;tbnid=WE9vsbXlBKuHsM:&amp;tbnh=106&amp;tbnw=126&amp;prev=/images?q=RESCUE+BREATH+CHILDREN&amp;hl=sr&amp;sa=G&amp;gbv=2&amp;tbs=isch:1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rs/imgres?imgurl=http://comps.fotosearch.com/comp/LIF/LIF145/drawing-demonstrating-taking_~PDB03020.jpg&amp;imgrefurl=http://www.fotosearch.com/LIF145/pdb03020/&amp;usg=__yOggaMY1Etjv80mERkOxx8BERb0=&amp;h=262&amp;w=300&amp;sz=18&amp;hl=sr&amp;start=1&amp;itbs=1&amp;tbnid=JZSTOdrfr5HC4M:&amp;tbnh=101&amp;tbnw=116&amp;prev=/images?q=brachial+pulse&amp;hl=sr&amp;gbv=2&amp;tbs=isch:1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images.google.rs/imgres?imgurl=http://comps.fotosearch.com/comp/LIF/LIF134/one-person-applies_~E505010.jpg&amp;imgrefurl=http://www.fotosearch.com/LIF134/e505010/&amp;usg=__usk0ErVfgHc2E3Mz12MzVxj8BzQ=&amp;h=273&amp;w=300&amp;sz=18&amp;hl=sr&amp;start=3&amp;itbs=1&amp;tbnid=cKiIRrC2jn_HJM:&amp;tbnh=106&amp;tbnw=116&amp;prev=/images?q=cHEST+COMPRESION+NEONATUS&amp;hl=sr&amp;gbv=2&amp;tbs=isch: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rs/imgres?imgurl=http://www.freebies4ya.com/articles/articleimages/babycpr.jpg&amp;imgrefurl=http://www.freebies4ya.com/articles/infantandtoddlercpr.asp&amp;usg=__uOCEsdrDsG9cyfFJzbuvUkGCe0A=&amp;h=286&amp;w=400&amp;sz=336&amp;hl=sr&amp;start=12&amp;itbs=1&amp;tbnid=lQ05H8Mj5TiLCM:&amp;tbnh=89&amp;tbnw=124&amp;prev=/images?q=cHEST+COMPRESION+INFANT&amp;hl=sr&amp;sa=G&amp;gbv=2&amp;tbs=isch: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rs/imgres?imgurl=http://www.babycenter.com/i/feeding/chest_thrust.gif&amp;imgrefurl=http://www.babycenter.com/0_first-aid-for-choking-and-cpr-an-illustrated-guide-for-age-1_11241.bc&amp;usg=__9UJn-3sArYk7IDECypqaiKKzy1Y=&amp;h=119&amp;w=178&amp;sz=6&amp;hl=sr&amp;start=34&amp;itbs=1&amp;tbnid=DHBq6XwnpWy-0M:&amp;tbnh=68&amp;tbnw=101&amp;prev=/images?q=cHEST+COMPRESION+CHILDREN&amp;start=18&amp;hl=sr&amp;sa=N&amp;gbv=2&amp;ndsp=18&amp;tbs=isch:1" TargetMode="External"/><Relationship Id="rId8" Type="http://schemas.openxmlformats.org/officeDocument/2006/relationships/image" Target="../media/image9.jpe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2819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PR FOR CHILDREN AND BASIC LIFE SUPPO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ss. Prof. dr Sanja Knezev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of Medical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C, Pediatric Clinic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agujev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04156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7940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erc_logo_gif"/>
          <p:cNvPicPr/>
          <p:nvPr/>
        </p:nvPicPr>
        <p:blipFill>
          <a:blip r:embed="rId1"/>
          <a:stretch/>
        </p:blipFill>
        <p:spPr>
          <a:xfrm>
            <a:off x="3276720" y="685800"/>
            <a:ext cx="2743200" cy="1174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87964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Figure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5610240"/>
            <a:ext cx="4648320" cy="1247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9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0" name="Sound 3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5.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pening the airw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cuf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ube is allowed for children and i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fety and benefit of cricoid cartilage pressure during intubation has not been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aled CO2 monitoring-capnography-tube position-optimization of C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4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6.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djustment of oxygen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 of hyperoxia after CA as soon as circulation is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ration of inhaled oxygen - reduce the risk of hypero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8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7.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ick respons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recognition of threatening signs of cardiac ar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reaction of the team in hospit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of cardiac arrest, respiratory arrest and hospital mor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02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 GROUP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TH YEAR - illogical (30:2, 15:2, A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NING OF PUBERTY UPPER LIMIT FOR P LS - (cardiac arrest) free est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CHILD - until pub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524196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937040" y="422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deca1"/>
          <p:cNvPicPr/>
          <p:nvPr/>
        </p:nvPicPr>
        <p:blipFill>
          <a:blip r:embed="rId1"/>
          <a:stretch/>
        </p:blipFill>
        <p:spPr>
          <a:xfrm>
            <a:off x="6297480" y="2133720"/>
            <a:ext cx="2022480" cy="2666880"/>
          </a:xfrm>
          <a:prstGeom prst="rect">
            <a:avLst/>
          </a:prstGeom>
          <a:ln w="0">
            <a:noFill/>
          </a:ln>
        </p:spPr>
      </p:pic>
      <p:pic>
        <p:nvPicPr>
          <p:cNvPr id="208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SONS FOR CHANGING THE GU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ACHIEVEMENTS (experimental models and experiences in adult resusci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ICATION (same guide for children and adults) B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CES ("cardiac arrest"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7-15%) –("asphyxial arrest") PEDIATRIC ALGORITHM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ПОЈ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ЧАНИ ТРЕНИ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260880" y="49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08968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Figure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630760"/>
            <a:ext cx="4343400" cy="1227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5" name="Picture 8" descr="keten overleving"/>
          <p:cNvPicPr/>
          <p:nvPr/>
        </p:nvPicPr>
        <p:blipFill>
          <a:blip r:embed="rId3"/>
          <a:stretch/>
        </p:blipFill>
        <p:spPr>
          <a:xfrm>
            <a:off x="4648320" y="5638680"/>
            <a:ext cx="4495680" cy="121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6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17" name="Sound 1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OREIGN BODY IN RESPIRATORY TRA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IED PROCE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TO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24196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Diagram 2" descr=""/>
          <p:cNvPicPr/>
          <p:nvPr/>
        </p:nvPicPr>
        <p:blipFill>
          <a:blip r:embed="rId1"/>
          <a:stretch/>
        </p:blipFill>
        <p:spPr>
          <a:xfrm>
            <a:off x="4592520" y="193032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222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23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SIC LIFE SUPPORT IN PEDIATRICS (BL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NIMATOR WHO IS EDUCATED FOR B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(NONE TRAINING FOR P B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SCITATE THE CHILD AS AN AD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WHAT MUST DO 5 INSUFF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BY 1 MINUTE CPR BEFORE CALLING EMERGENCY ASSISTANCE-(A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Figure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5877000"/>
            <a:ext cx="3657600" cy="981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keten overleving"/>
          <p:cNvPicPr/>
          <p:nvPr/>
        </p:nvPicPr>
        <p:blipFill>
          <a:blip r:embed="rId3"/>
          <a:stretch/>
        </p:blipFill>
        <p:spPr>
          <a:xfrm>
            <a:off x="304920" y="5919840"/>
            <a:ext cx="4267080" cy="93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8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29" name="Sound 2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1440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8600" y="609480"/>
            <a:ext cx="4332240" cy="1008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ING THE STATE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HE IS UNCONS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849960" y="1752480"/>
            <a:ext cx="261612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FOR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821160" y="2438280"/>
            <a:ext cx="236304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AI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42520" y="3124080"/>
            <a:ext cx="315540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4920" y="3886200"/>
            <a:ext cx="418788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EMERGENCY 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53920" y="4648320"/>
            <a:ext cx="288900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0 COM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683720" y="5486400"/>
            <a:ext cx="79020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0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69916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4" descr="gr1"/>
          <p:cNvPicPr/>
          <p:nvPr/>
        </p:nvPicPr>
        <p:blipFill>
          <a:blip r:embed="rId1"/>
          <a:stretch/>
        </p:blipFill>
        <p:spPr>
          <a:xfrm>
            <a:off x="4952880" y="228600"/>
            <a:ext cx="3646440" cy="6095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288080" y="-20520"/>
            <a:ext cx="141372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98108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981080" y="2209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98108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1981080" y="3581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0"/>
          <p:cNvSpPr/>
          <p:nvPr/>
        </p:nvSpPr>
        <p:spPr>
          <a:xfrm>
            <a:off x="1981080" y="4343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1"/>
          <p:cNvSpPr/>
          <p:nvPr/>
        </p:nvSpPr>
        <p:spPr>
          <a:xfrm>
            <a:off x="1981080" y="5105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CP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ONE FAST-PHONE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keten overleving"/>
          <p:cNvPicPr/>
          <p:nvPr/>
        </p:nvPicPr>
        <p:blipFill>
          <a:blip r:embed="rId1"/>
          <a:stretch/>
        </p:blipFill>
        <p:spPr>
          <a:xfrm>
            <a:off x="0" y="4038480"/>
            <a:ext cx="4267080" cy="93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52" name="Picture 5" descr="Figure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4038480"/>
            <a:ext cx="3657600" cy="981360"/>
          </a:xfrm>
          <a:prstGeom prst="rect">
            <a:avLst/>
          </a:prstGeom>
          <a:ln w="0">
            <a:noFill/>
          </a:ln>
        </p:spPr>
      </p:pic>
      <p:pic>
        <p:nvPicPr>
          <p:cNvPr id="253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Sound 2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АLGORITHM P BL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6005880" y="2932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6006240" y="2932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843840" y="4800600"/>
            <a:ext cx="273492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BEZ ZNAKOVA ŽIV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3276720" y="5181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997200" y="5410080"/>
            <a:ext cx="197136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5 KOMPRES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568440" y="5923080"/>
            <a:ext cx="1971360" cy="642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 INSUFLA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5 KOMPRES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65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BBREVI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38224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R =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ife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aediatric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fe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aediatrica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vanc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fe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utomated external defibrill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LS ( Newborn life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651040" y="4989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04156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keten overleving"/>
          <p:cNvPicPr/>
          <p:nvPr/>
        </p:nvPicPr>
        <p:blipFill>
          <a:blip r:embed="rId1"/>
          <a:stretch/>
        </p:blipFill>
        <p:spPr>
          <a:xfrm>
            <a:off x="1905120" y="5562720"/>
            <a:ext cx="5029200" cy="977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6" name="Text Box 9"/>
          <p:cNvSpPr/>
          <p:nvPr/>
        </p:nvSpPr>
        <p:spPr>
          <a:xfrm>
            <a:off x="6994440" y="26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erc_logo_gif"/>
          <p:cNvPicPr/>
          <p:nvPr/>
        </p:nvPicPr>
        <p:blipFill>
          <a:blip r:embed="rId2"/>
          <a:stretch/>
        </p:blipFill>
        <p:spPr>
          <a:xfrm>
            <a:off x="6705720" y="304920"/>
            <a:ext cx="1981080" cy="849240"/>
          </a:xfrm>
          <a:prstGeom prst="rect">
            <a:avLst/>
          </a:prstGeom>
          <a:ln w="0">
            <a:noFill/>
          </a:ln>
        </p:spPr>
      </p:pic>
      <p:pic>
        <p:nvPicPr>
          <p:cNvPr id="138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39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3897360" y="0"/>
            <a:ext cx="189360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CONSC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816720" y="762120"/>
            <a:ext cx="150372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for hel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439800" y="1600200"/>
            <a:ext cx="207360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 the airw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503520" y="2438280"/>
            <a:ext cx="344520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BREATHING NORM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4046040" y="3048120"/>
            <a:ext cx="160560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uff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286440" y="3657600"/>
            <a:ext cx="224280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IGNS OF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973320" y="4343400"/>
            <a:ext cx="191988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3898080" y="5029200"/>
            <a:ext cx="2046240" cy="642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2 insuff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5 com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3292920" y="6019920"/>
            <a:ext cx="308844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 the resuscitation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4648320" y="380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4724280" y="1143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4724280" y="1981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4724280" y="2819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4724280" y="3429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464832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4648320" y="4724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472428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84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SURE SECURITY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EANIMATOR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NIMATOR MUST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OME A VICT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5699160" y="262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44038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7223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74628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1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766960" cy="4648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92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93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. CHECKING THE STATE OF CONSCIOUS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1598400"/>
            <a:ext cx="83012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TOUCHED CHEEK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CAN YOU HEAR ME"? "ARE YOU OKAY"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SNAP A CHILD (spinal inju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750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3657600" cy="2471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8" name="Text Box 6"/>
          <p:cNvSpPr/>
          <p:nvPr/>
        </p:nvSpPr>
        <p:spPr>
          <a:xfrm>
            <a:off x="26668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5203800" y="441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9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42900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01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02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3А. IF IT RESPONDS OR STAR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IT IN THE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e condition and provide assistance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for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257508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2286000" cy="17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07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08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Б. STILL UNCONSCIO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for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t the child back on his back and open the 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98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3182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1082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5470560" y="1560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74628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18280" y="39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4413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0" y="6224760"/>
            <a:ext cx="4494240" cy="703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rowing back the head and raising the c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47084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4105440" y="5619600"/>
            <a:ext cx="3855240" cy="36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ulling the lower jaw forward and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8" descr="img-infant_head_p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429000"/>
            <a:ext cx="3276720" cy="2055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0" descr="Aairwayjawthru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276720"/>
            <a:ext cx="2666880" cy="2138400"/>
          </a:xfrm>
          <a:prstGeom prst="rect">
            <a:avLst/>
          </a:prstGeom>
          <a:ln w="0">
            <a:noFill/>
          </a:ln>
        </p:spPr>
      </p:pic>
      <p:pic>
        <p:nvPicPr>
          <p:cNvPr id="323" name="Sound 1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24" name="Sound 2" descr=""/>
          <p:cNvPicPr/>
          <p:nvPr/>
        </p:nvPicPr>
        <p:blipFill>
          <a:blip r:embed="rId6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OPENING OF AIRWA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27944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429000" y="4164120"/>
            <a:ext cx="4267080" cy="201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8" name="Text Box 6"/>
          <p:cNvSpPr/>
          <p:nvPr/>
        </p:nvSpPr>
        <p:spPr>
          <a:xfrm>
            <a:off x="51656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6146280" y="3581280"/>
            <a:ext cx="2404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UTRAL 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5241960" y="293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10" descr="untitled1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2181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32" name="Text Box 11"/>
          <p:cNvSpPr/>
          <p:nvPr/>
        </p:nvSpPr>
        <p:spPr>
          <a:xfrm>
            <a:off x="4053240" y="6324480"/>
            <a:ext cx="32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"SCENTING" POSITION &gt;1 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12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1976400" cy="4114800"/>
          </a:xfrm>
          <a:prstGeom prst="rect">
            <a:avLst/>
          </a:prstGeom>
          <a:ln w="0">
            <a:noFill/>
          </a:ln>
        </p:spPr>
      </p:pic>
      <p:pic>
        <p:nvPicPr>
          <p:cNvPr id="334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35" name="Sound 2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3ff"/>
                </a:solidFill>
                <a:latin typeface="Arial"/>
              </a:rPr>
              <a:t>4.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KEEP THE AIRWAY OPEN - LOOK, LISTEN, FEE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50804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827400" y="2165400"/>
            <a:ext cx="1756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 S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19652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8" descr="Check breathing"/>
          <p:cNvPicPr/>
          <p:nvPr/>
        </p:nvPicPr>
        <p:blipFill>
          <a:blip r:embed="rId1"/>
          <a:stretch/>
        </p:blipFill>
        <p:spPr>
          <a:xfrm>
            <a:off x="457200" y="2133720"/>
            <a:ext cx="3276720" cy="2701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41" name="Picture 11" descr="19668_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2590920"/>
            <a:ext cx="2438280" cy="19461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2"/>
          <p:cNvSpPr/>
          <p:nvPr/>
        </p:nvSpPr>
        <p:spPr>
          <a:xfrm>
            <a:off x="181800" y="5200560"/>
            <a:ext cx="8481960" cy="703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1st minutes after cardiac arrest—agonal breathing (gasping)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rea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44" name="Sound 2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A. IF HE BREATHES NORM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Figur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2209680"/>
            <a:ext cx="62866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48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49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Б. NOT BREATHING (OR BREATHING AGONALLY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VISIBLE FOREIGN BODY IF 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INITIAL INSUFF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HE MOVEMENT OR C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S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53" name="Sound 3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ILD'S MOUTH-TO-MOUTH VENTIL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3557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5356440" y="3098880"/>
            <a:ext cx="3769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spirium1-1,5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6940800" y="4343400"/>
            <a:ext cx="7902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6635160" y="5410080"/>
            <a:ext cx="22107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2-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13" descr="rescuebreathingchi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557600"/>
            <a:ext cx="2733480" cy="23004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6"/>
          <p:cNvSpPr/>
          <p:nvPr/>
        </p:nvSpPr>
        <p:spPr>
          <a:xfrm>
            <a:off x="669960" y="262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17" descr="gr2"/>
          <p:cNvPicPr/>
          <p:nvPr/>
        </p:nvPicPr>
        <p:blipFill>
          <a:blip r:embed="rId3"/>
          <a:stretch/>
        </p:blipFill>
        <p:spPr>
          <a:xfrm>
            <a:off x="304920" y="1523880"/>
            <a:ext cx="3581280" cy="2676600"/>
          </a:xfrm>
          <a:prstGeom prst="rect">
            <a:avLst/>
          </a:prstGeom>
          <a:ln w="0">
            <a:noFill/>
          </a:ln>
        </p:spPr>
      </p:pic>
      <p:pic>
        <p:nvPicPr>
          <p:cNvPr id="362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63" name="Sound 2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3124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suscitation, Circulation, Pediatrics-novemb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05. i 20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cidence of CP arrest in children is much lower than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ide must be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651040" y="514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422440" y="468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keten overleving"/>
          <p:cNvPicPr/>
          <p:nvPr/>
        </p:nvPicPr>
        <p:blipFill>
          <a:blip r:embed="rId1"/>
          <a:stretch/>
        </p:blipFill>
        <p:spPr>
          <a:xfrm>
            <a:off x="1981080" y="5410080"/>
            <a:ext cx="5029200" cy="978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5" name="Text Box 8"/>
          <p:cNvSpPr/>
          <p:nvPr/>
        </p:nvSpPr>
        <p:spPr>
          <a:xfrm>
            <a:off x="6232680" y="417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erc_logo_gif"/>
          <p:cNvPicPr/>
          <p:nvPr/>
        </p:nvPicPr>
        <p:blipFill>
          <a:blip r:embed="rId2"/>
          <a:stretch/>
        </p:blipFill>
        <p:spPr>
          <a:xfrm>
            <a:off x="6019920" y="228600"/>
            <a:ext cx="2666880" cy="1141560"/>
          </a:xfrm>
          <a:prstGeom prst="rect">
            <a:avLst/>
          </a:prstGeom>
          <a:ln w="0">
            <a:noFill/>
          </a:ln>
        </p:spPr>
      </p:pic>
      <p:pic>
        <p:nvPicPr>
          <p:cNvPr id="147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48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FANT VENTILATION – MOUTH TO NOSE AND MOUTH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508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2895840" cy="23986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7223760" y="304812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-1,5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7" descr="gr3"/>
          <p:cNvPicPr/>
          <p:nvPr/>
        </p:nvPicPr>
        <p:blipFill>
          <a:blip r:embed="rId2"/>
          <a:stretch/>
        </p:blipFill>
        <p:spPr>
          <a:xfrm>
            <a:off x="228600" y="2133720"/>
            <a:ext cx="3581280" cy="2647800"/>
          </a:xfrm>
          <a:prstGeom prst="rect">
            <a:avLst/>
          </a:prstGeom>
          <a:ln w="0">
            <a:noFill/>
          </a:ln>
        </p:spPr>
      </p:pic>
      <p:pic>
        <p:nvPicPr>
          <p:cNvPr id="369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70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f ventilation is not eff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the mouth and remove the visible 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w the head back, lift the jaw - or reduce th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action of the lower j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insufflation-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74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2120"/>
            <a:ext cx="86868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SIGNS OF LIFE (ASSESSMENT OF CIRCULATION)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10 SEC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1271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4937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10" descr="drawing-demonstrating-taking_~PDB030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114800"/>
            <a:ext cx="2895480" cy="2521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pulse-carotid-artery_~PulCr"/>
          <p:cNvPicPr/>
          <p:nvPr/>
        </p:nvPicPr>
        <p:blipFill>
          <a:blip r:embed="rId3"/>
          <a:stretch/>
        </p:blipFill>
        <p:spPr>
          <a:xfrm>
            <a:off x="6324480" y="1523880"/>
            <a:ext cx="2819520" cy="23338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3"/>
          <p:cNvSpPr/>
          <p:nvPr/>
        </p:nvSpPr>
        <p:spPr>
          <a:xfrm>
            <a:off x="573840" y="2073240"/>
            <a:ext cx="4591440" cy="2043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for signs of lif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82" name="Sound 2" descr=""/>
          <p:cNvPicPr/>
          <p:nvPr/>
        </p:nvPicPr>
        <p:blipFill>
          <a:blip r:embed="rId5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7А. SHOWS SIGNS OF LIFE-CIRCULATION</a:t>
            </a:r>
            <a:r>
              <a:rPr b="0" lang="sr-Latn-CS" sz="4000" spc="-1" strike="noStrike">
                <a:solidFill>
                  <a:srgbClr val="e3e3ff"/>
                </a:solidFill>
                <a:latin typeface="Arial"/>
              </a:rPr>
              <a:t> - 10 sec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 CPR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HE IS UNCONSCIOUS AND BREATHING - RECOVERY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43275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5" descr="Figure 3"/>
          <p:cNvPicPr/>
          <p:nvPr/>
        </p:nvPicPr>
        <p:blipFill>
          <a:blip r:embed="rId1"/>
          <a:stretch/>
        </p:blipFill>
        <p:spPr>
          <a:xfrm>
            <a:off x="4432320" y="4619520"/>
            <a:ext cx="3505320" cy="204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87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388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Б. NO signs of lif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318280" y="224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394240" y="437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9" descr=""/>
          <p:cNvPicPr/>
          <p:nvPr/>
        </p:nvPicPr>
        <p:blipFill>
          <a:blip r:embed="rId1"/>
          <a:stretch/>
        </p:blipFill>
        <p:spPr>
          <a:xfrm>
            <a:off x="4572000" y="34322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0"/>
          <p:cNvSpPr/>
          <p:nvPr/>
        </p:nvSpPr>
        <p:spPr>
          <a:xfrm>
            <a:off x="524196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11" descr=""/>
          <p:cNvPicPr/>
          <p:nvPr/>
        </p:nvPicPr>
        <p:blipFill>
          <a:blip r:embed="rId2"/>
          <a:stretch/>
        </p:blipFill>
        <p:spPr>
          <a:xfrm>
            <a:off x="4724280" y="35845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2"/>
          <p:cNvSpPr/>
          <p:nvPr/>
        </p:nvSpPr>
        <p:spPr>
          <a:xfrm>
            <a:off x="501336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1279440" y="17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371808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17" descr="Figure 5"/>
          <p:cNvPicPr/>
          <p:nvPr/>
        </p:nvPicPr>
        <p:blipFill>
          <a:blip r:embed="rId3"/>
          <a:stretch/>
        </p:blipFill>
        <p:spPr>
          <a:xfrm>
            <a:off x="533520" y="4687920"/>
            <a:ext cx="3124080" cy="21700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8"/>
          <p:cNvSpPr/>
          <p:nvPr/>
        </p:nvSpPr>
        <p:spPr>
          <a:xfrm>
            <a:off x="7543800" y="1295280"/>
            <a:ext cx="160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0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120 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8747280" y="3389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3"/>
          <p:cNvSpPr/>
          <p:nvPr/>
        </p:nvSpPr>
        <p:spPr>
          <a:xfrm>
            <a:off x="7090560" y="5486400"/>
            <a:ext cx="1808280" cy="398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Hard and f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4"/>
          <p:cNvSpPr/>
          <p:nvPr/>
        </p:nvSpPr>
        <p:spPr>
          <a:xfrm>
            <a:off x="4479840" y="4227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25" descr="gr4"/>
          <p:cNvPicPr/>
          <p:nvPr/>
        </p:nvPicPr>
        <p:blipFill>
          <a:blip r:embed="rId4"/>
          <a:stretch/>
        </p:blipFill>
        <p:spPr>
          <a:xfrm>
            <a:off x="304920" y="1143000"/>
            <a:ext cx="3581280" cy="328608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26"/>
          <p:cNvSpPr/>
          <p:nvPr/>
        </p:nvSpPr>
        <p:spPr>
          <a:xfrm>
            <a:off x="440388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7" descr="gr5"/>
          <p:cNvPicPr/>
          <p:nvPr/>
        </p:nvPicPr>
        <p:blipFill>
          <a:blip r:embed="rId5"/>
          <a:stretch/>
        </p:blipFill>
        <p:spPr>
          <a:xfrm>
            <a:off x="4038480" y="1143000"/>
            <a:ext cx="3238560" cy="29894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28"/>
          <p:cNvSpPr/>
          <p:nvPr/>
        </p:nvSpPr>
        <p:spPr>
          <a:xfrm>
            <a:off x="41752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9" descr="gr6"/>
          <p:cNvPicPr/>
          <p:nvPr/>
        </p:nvPicPr>
        <p:blipFill>
          <a:blip r:embed="rId6"/>
          <a:stretch/>
        </p:blipFill>
        <p:spPr>
          <a:xfrm>
            <a:off x="4724280" y="426708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409" name="Sound 1" descr=""/>
          <p:cNvPicPr/>
          <p:nvPr/>
        </p:nvPicPr>
        <p:blipFill>
          <a:blip r:embed="rId7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10" name="Sound 2" descr=""/>
          <p:cNvPicPr/>
          <p:nvPr/>
        </p:nvPicPr>
        <p:blipFill>
          <a:blip r:embed="rId8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TINUE CPR UNTIL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ILD SHOWS SIGNS OF LIFE (F&gt;6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FIED HELP  AR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uscitator becomes exhau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14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N TO CALL FOR HELP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REANIMATORS - ONE CPR THE OTHER -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REANIMATOR - CPR 1 MIN THEN CALL FOR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REANIMATOR - SUDDEN COLLAPSE - HELP WITHOUT CPR - DEFIBRIL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94668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2286000" cy="17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19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20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  <a:ea typeface="Arial"/>
              </a:rPr>
              <a:t>RECOVERY POSITION – SIDE POSI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22" name="Picture 4" descr="Figure 3"/>
          <p:cNvPicPr/>
          <p:nvPr/>
        </p:nvPicPr>
        <p:blipFill>
          <a:blip r:embed="rId1"/>
          <a:stretch/>
        </p:blipFill>
        <p:spPr>
          <a:xfrm>
            <a:off x="228600" y="1828800"/>
            <a:ext cx="4876920" cy="2836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23" name="Text Box 5"/>
          <p:cNvSpPr/>
          <p:nvPr/>
        </p:nvSpPr>
        <p:spPr>
          <a:xfrm>
            <a:off x="4865400" y="1530360"/>
            <a:ext cx="40302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CONS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ONTANEOUSLY BREAT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5165640" y="407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7" descr="Safety pos 1"/>
          <p:cNvPicPr/>
          <p:nvPr/>
        </p:nvPicPr>
        <p:blipFill>
          <a:blip r:embed="rId2"/>
          <a:stretch/>
        </p:blipFill>
        <p:spPr>
          <a:xfrm>
            <a:off x="5257800" y="3809880"/>
            <a:ext cx="3581280" cy="21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26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27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OREIGN BODY IN RESPIRATORY TRA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DDEN ONSET OF RD (COUGH, STRID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SENCE OF OTHER DISEASE SIGNS (LARYNGITIS, EPIGLOTIT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ILE FEEDING OR P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31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АЛГОРИТАМ КОД ОПСТРУКЦИЈЕ ДИСАЈНИХ ПУТЕВ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95596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Diagram 2" descr="A diagram of a company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457200" y="1368360"/>
            <a:ext cx="8001000" cy="4876920"/>
          </a:xfrm>
          <a:prstGeom prst="rect">
            <a:avLst/>
          </a:prstGeom>
          <a:ln w="0">
            <a:noFill/>
          </a:ln>
        </p:spPr>
      </p:pic>
      <p:pic>
        <p:nvPicPr>
          <p:cNvPr id="435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36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tion of cardiac ar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ion and ventilation ra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R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bril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way-opening of air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 of oxygenation (tit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respons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top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52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KICK IN THE BACK OF INF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97488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4165200" y="2386080"/>
            <a:ext cx="32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STRONG KI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palm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7" descr="babyanne"/>
          <p:cNvPicPr/>
          <p:nvPr/>
        </p:nvPicPr>
        <p:blipFill>
          <a:blip r:embed="rId1"/>
          <a:stretch/>
        </p:blipFill>
        <p:spPr>
          <a:xfrm>
            <a:off x="990720" y="2438280"/>
            <a:ext cx="3124080" cy="2421000"/>
          </a:xfrm>
          <a:prstGeom prst="rect">
            <a:avLst/>
          </a:prstGeom>
          <a:ln w="0">
            <a:noFill/>
          </a:ln>
        </p:spPr>
      </p:pic>
      <p:pic>
        <p:nvPicPr>
          <p:cNvPr id="441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42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ESSURE ON INFANT'S CHES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5843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4883760" y="2133720"/>
            <a:ext cx="4019760" cy="301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pres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chest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rt massage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wer and sharpe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 3 s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1" descr="kpr5"/>
          <p:cNvPicPr/>
          <p:nvPr/>
        </p:nvPicPr>
        <p:blipFill>
          <a:blip r:embed="rId1"/>
          <a:stretch/>
        </p:blipFill>
        <p:spPr>
          <a:xfrm>
            <a:off x="609480" y="2133720"/>
            <a:ext cx="4191120" cy="3019320"/>
          </a:xfrm>
          <a:prstGeom prst="rect">
            <a:avLst/>
          </a:prstGeom>
          <a:ln w="0">
            <a:noFill/>
          </a:ln>
        </p:spPr>
      </p:pic>
      <p:pic>
        <p:nvPicPr>
          <p:cNvPr id="447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48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IT IN THE BACK IN CHILDREN OVER 1 YEAR O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4421160" cy="487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51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52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PRESSURE ON THE ABDOMEN OF CHILDREN OVER 1 YEAR OLD - HEIMLICH MANEUVER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1508040" y="2246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458240" y="2286000"/>
            <a:ext cx="442980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nd put fist betwe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mbilicus and p. xiphoid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hand grasps the f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consecutive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ward and up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pressure on the xipho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ri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OMINAL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7" descr="clip_image010"/>
          <p:cNvPicPr/>
          <p:nvPr/>
        </p:nvPicPr>
        <p:blipFill>
          <a:blip r:embed="rId1"/>
          <a:stretch/>
        </p:blipFill>
        <p:spPr>
          <a:xfrm>
            <a:off x="1219320" y="1828800"/>
            <a:ext cx="2857320" cy="4448160"/>
          </a:xfrm>
          <a:prstGeom prst="rect">
            <a:avLst/>
          </a:prstGeom>
          <a:ln w="0">
            <a:noFill/>
          </a:ln>
        </p:spPr>
      </p:pic>
      <p:pic>
        <p:nvPicPr>
          <p:cNvPr id="457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58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P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5080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5" descr="j0160000"/>
          <p:cNvPicPr/>
          <p:nvPr/>
        </p:nvPicPr>
        <p:blipFill>
          <a:blip r:embed="rId1"/>
          <a:stretch/>
        </p:blipFill>
        <p:spPr>
          <a:xfrm>
            <a:off x="2651040" y="1600200"/>
            <a:ext cx="39560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62" name="Text Box 6"/>
          <p:cNvSpPr/>
          <p:nvPr/>
        </p:nvSpPr>
        <p:spPr>
          <a:xfrm>
            <a:off x="447984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48"/>
          <p:cNvSpPr/>
          <p:nvPr/>
        </p:nvSpPr>
        <p:spPr>
          <a:xfrm>
            <a:off x="9748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65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gr1"/>
          <p:cNvPicPr/>
          <p:nvPr/>
        </p:nvPicPr>
        <p:blipFill>
          <a:blip r:embed="rId1"/>
          <a:stretch/>
        </p:blipFill>
        <p:spPr>
          <a:xfrm>
            <a:off x="2725560" y="0"/>
            <a:ext cx="369288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468" name="Sound 3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 Recognition of cardiac arr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brea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ce of signs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possible to reliably assess the pulse in less than 10 seconds - it is not an exclusive sign of cardiac ar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5638680" y="1752480"/>
            <a:ext cx="381240" cy="152424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109200" y="1905120"/>
            <a:ext cx="261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1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C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Sound 1" descr=""/>
          <p:cNvPicPr/>
          <p:nvPr/>
        </p:nvPicPr>
        <p:blipFill>
          <a:blip r:embed="rId1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58" name="Sound 2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pression/ventilation rat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rained resuscitator 30: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ed resuscitator 15:2 (if alone 30: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tion is important in asphyxial arrest - only compression is possibl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PR=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COMPRESSIO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477120" y="4697280"/>
            <a:ext cx="266688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2" name="Sound 1" descr=""/>
          <p:cNvPicPr/>
          <p:nvPr/>
        </p:nvPicPr>
        <p:blipFill>
          <a:blip r:embed="rId2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63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QUALITY AND TECHNIQUE OF </a:t>
            </a:r>
            <a:br>
              <a:rPr sz="2800"/>
            </a:b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HEST COMPRESSION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third of sternum 1 finger above xiphoidus, depth of 1/3 AP diameter (4 cm-5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ANT – two fingers (1) or 2 thumbs (2 or &gt;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CHILD - (1 or two hands) - the quality and depth of compression is important. (100-120/m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1295280" cy="1047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7" name="Text Box 5"/>
          <p:cNvSpPr/>
          <p:nvPr/>
        </p:nvSpPr>
        <p:spPr>
          <a:xfrm>
            <a:off x="143208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417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615636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56600" y="6118200"/>
            <a:ext cx="3356640" cy="520200"/>
          </a:xfrm>
          <a:prstGeom prst="rect">
            <a:avLst/>
          </a:prstGeom>
          <a:solidFill>
            <a:srgbClr val="e3e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TTER CORONARY</a:t>
            </a:r>
            <a:r>
              <a:rPr b="0" lang="sr-CS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RF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ETTER COMPRESSION STR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9" descr="Chest compression"/>
          <p:cNvPicPr/>
          <p:nvPr/>
        </p:nvPicPr>
        <p:blipFill>
          <a:blip r:embed="rId2"/>
          <a:stretch/>
        </p:blipFill>
        <p:spPr>
          <a:xfrm>
            <a:off x="7162920" y="4114800"/>
            <a:ext cx="164124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one-person-applies_~E5050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114800"/>
            <a:ext cx="1904760" cy="174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babycp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62320" y="419112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hest_thrus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434340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75" name="Sound 1" descr=""/>
          <p:cNvPicPr/>
          <p:nvPr/>
        </p:nvPicPr>
        <p:blipFill>
          <a:blip r:embed="rId9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76" name="Sound 2" descr=""/>
          <p:cNvPicPr/>
          <p:nvPr/>
        </p:nvPicPr>
        <p:blipFill>
          <a:blip r:embed="rId10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4.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fibrillation-non-shockable rhyth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D- safe and successful &gt; one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-75 J 1-8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 AED over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pediatric_pads_index"/>
          <p:cNvPicPr/>
          <p:nvPr/>
        </p:nvPicPr>
        <p:blipFill>
          <a:blip r:embed="rId1"/>
          <a:stretch/>
        </p:blipFill>
        <p:spPr>
          <a:xfrm>
            <a:off x="5257800" y="3886200"/>
            <a:ext cx="3048120" cy="2782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557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6" descr="gr8"/>
          <p:cNvPicPr/>
          <p:nvPr/>
        </p:nvPicPr>
        <p:blipFill>
          <a:blip r:embed="rId2"/>
          <a:stretch/>
        </p:blipFill>
        <p:spPr>
          <a:xfrm>
            <a:off x="304920" y="3809880"/>
            <a:ext cx="3581280" cy="2895840"/>
          </a:xfrm>
          <a:prstGeom prst="rect">
            <a:avLst/>
          </a:prstGeom>
          <a:ln w="0">
            <a:noFill/>
          </a:ln>
        </p:spPr>
      </p:pic>
      <p:pic>
        <p:nvPicPr>
          <p:cNvPr id="182" name="Sound 2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83" name="Sound 1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lang="sr-Latn-CS" sz="4400" spc="-1" strike="noStrike">
                <a:solidFill>
                  <a:srgbClr val="e3e3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ANUAL DEFIBRILLATION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T/ no pu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hock then K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J/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HA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ONOPHAS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15636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299120" cy="3384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38080" cy="62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89" name="Sound 1" descr=""/>
          <p:cNvPicPr/>
          <p:nvPr/>
        </p:nvPicPr>
        <p:blipFill>
          <a:blip r:embed="rId3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190" name="Sound 2" descr=""/>
          <p:cNvPicPr/>
          <p:nvPr/>
        </p:nvPicPr>
        <p:blipFill>
          <a:blip r:embed="rId4"/>
          <a:stretch/>
        </p:blipFill>
        <p:spPr>
          <a:xfrm>
            <a:off x="8178840" y="5892840"/>
            <a:ext cx="812880" cy="81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25:51Z</dcterms:created>
  <dc:creator>a</dc:creator>
  <dc:description/>
  <dc:language>en-US</dc:language>
  <cp:lastModifiedBy>Korisnik</cp:lastModifiedBy>
  <dcterms:modified xsi:type="dcterms:W3CDTF">2025-04-16T18:19:15Z</dcterms:modified>
  <cp:revision>289</cp:revision>
  <dc:subject/>
  <dc:title>NOVINE U KPR KOD DECE</dc:title>
</cp:coreProperties>
</file>